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BD1AB-69BB-443C-9A23-CDD4099F3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178E2-7C00-4693-88F9-9E3C20B1F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76C21-4276-4828-A1C7-D6C1D224E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48732-FCC0-4208-BB65-5A8C83416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20BA-178B-4F18-A2A9-2D9957AB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FD8B8-F50B-49BD-A92B-3973EED9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A8D3-0C7D-4C6C-80AC-AB26A687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5C3E-FAD9-48AA-BF5F-45C8F81F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4647-57CD-4D19-9C1B-D9308166D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FAAC-D93B-4CCF-BC40-6659FBA9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E9DD-E447-40DF-AECD-320EDB5F3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DA9D-E67A-4239-BC07-4B1B4686F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FEA8-893E-4670-8555-62B8A52191DF}" type="slidenum">
              <a:rPr b="0" lang="tr-TR"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57160"/>
            <a:ext cx="7772400" cy="38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ES BİLGİSİ,</a:t>
            </a:r>
            <a:br>
              <a:rPr sz="3600"/>
            </a:br>
            <a:br>
              <a:rPr sz="3600"/>
            </a:br>
            <a:r>
              <a:rPr b="1" lang="tr-TR" sz="3600" spc="-1" strike="noStrike">
                <a:solidFill>
                  <a:srgbClr val="000000"/>
                </a:solidFill>
                <a:latin typeface="Times New Roman"/>
                <a:ea typeface="Times New Roman"/>
              </a:rPr>
              <a:t> TÜRKÇEDEKİ SESLER</a:t>
            </a:r>
            <a:br>
              <a:rPr sz="3600"/>
            </a:br>
            <a:r>
              <a:rPr b="1" lang="tr-TR" sz="3600" spc="-1" strike="noStrike">
                <a:solidFill>
                  <a:srgbClr val="000000"/>
                </a:solidFill>
                <a:latin typeface="Times New Roman"/>
                <a:ea typeface="Times New Roman"/>
              </a:rPr>
              <a:t> </a:t>
            </a:r>
            <a:br>
              <a:rPr sz="3600"/>
            </a:br>
            <a:r>
              <a:rPr b="1" lang="tr-TR" sz="3600" spc="-1" strike="noStrike">
                <a:solidFill>
                  <a:srgbClr val="000000"/>
                </a:solidFill>
                <a:latin typeface="Times New Roman"/>
                <a:ea typeface="Times New Roman"/>
              </a:rPr>
              <a:t>VE SINIFLANDIRILMASI</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LER VE SINIFLANDIRILMASI</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ÜNLÜLER: </a:t>
            </a:r>
            <a:r>
              <a:rPr b="0" lang="tr-TR" sz="2400" spc="-1" strike="noStrike">
                <a:solidFill>
                  <a:srgbClr val="000000"/>
                </a:solidFill>
                <a:latin typeface="Times New Roman"/>
                <a:ea typeface="Times New Roman"/>
              </a:rPr>
              <a:t>Ses tellerinin titreşimiyle  ve titreşim akımının ses yolunda hiçbir engelle karşılaşmaması sonucu oluşurlar.  Türkçede </a:t>
            </a:r>
            <a:r>
              <a:rPr b="0" lang="tr-TR" sz="2400" spc="-1" strike="noStrike">
                <a:solidFill>
                  <a:srgbClr val="0070c0"/>
                </a:solidFill>
                <a:latin typeface="Times New Roman"/>
                <a:ea typeface="Times New Roman"/>
              </a:rPr>
              <a:t>a,e,ı,i,o,ö,u,ü</a:t>
            </a:r>
            <a:r>
              <a:rPr b="0" lang="tr-TR" sz="2400" spc="-1" strike="noStrike">
                <a:solidFill>
                  <a:srgbClr val="000000"/>
                </a:solidFill>
                <a:latin typeface="Times New Roman"/>
                <a:ea typeface="Times New Roman"/>
              </a:rPr>
              <a:t> olmak üzere sekiz ünlü vardır. Ünlüler dört grupta incelenebili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1.Oluşum Noktalarına Gö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zın gerisinde, dilin arka tarafında oluşan </a:t>
            </a:r>
            <a:r>
              <a:rPr b="1" lang="tr-TR" sz="2400" spc="-1" strike="noStrike">
                <a:solidFill>
                  <a:srgbClr val="000000"/>
                </a:solidFill>
                <a:latin typeface="Times New Roman"/>
                <a:ea typeface="Times New Roman"/>
              </a:rPr>
              <a:t>a, ı, o, u </a:t>
            </a:r>
            <a:r>
              <a:rPr b="0" lang="tr-TR" sz="2400" spc="-1" strike="noStrike">
                <a:solidFill>
                  <a:srgbClr val="000000"/>
                </a:solidFill>
                <a:latin typeface="Times New Roman"/>
                <a:ea typeface="Times New Roman"/>
              </a:rPr>
              <a:t>sesleri </a:t>
            </a:r>
            <a:r>
              <a:rPr b="1" lang="tr-TR" sz="2400" spc="-1" strike="noStrike" u="sng">
                <a:solidFill>
                  <a:srgbClr val="000000"/>
                </a:solidFill>
                <a:uFillTx/>
                <a:latin typeface="Times New Roman"/>
                <a:ea typeface="Times New Roman"/>
              </a:rPr>
              <a:t>art (kalın)</a:t>
            </a:r>
            <a:r>
              <a:rPr b="0" lang="tr-TR" sz="2400" spc="-1" strike="noStrike">
                <a:solidFill>
                  <a:srgbClr val="000000"/>
                </a:solidFill>
                <a:latin typeface="Times New Roman"/>
                <a:ea typeface="Times New Roman"/>
              </a:rPr>
              <a:t>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 Dilin öne sürülmesiyle ağzın ön kısmında oluşan </a:t>
            </a:r>
            <a:r>
              <a:rPr b="1" lang="tr-TR" sz="2400" spc="-1" strike="noStrike">
                <a:solidFill>
                  <a:srgbClr val="000000"/>
                </a:solidFill>
                <a:latin typeface="Times New Roman"/>
                <a:ea typeface="Times New Roman"/>
              </a:rPr>
              <a:t>e, i, ö, ü </a:t>
            </a:r>
            <a:r>
              <a:rPr b="0" lang="tr-TR" sz="2400" spc="-1" strike="noStrike">
                <a:solidFill>
                  <a:srgbClr val="000000"/>
                </a:solidFill>
                <a:latin typeface="Times New Roman"/>
                <a:ea typeface="Times New Roman"/>
              </a:rPr>
              <a:t>sesleri de </a:t>
            </a:r>
            <a:r>
              <a:rPr b="1" lang="tr-TR" sz="2400" spc="-1" strike="noStrike" u="sng">
                <a:solidFill>
                  <a:srgbClr val="000000"/>
                </a:solidFill>
                <a:uFillTx/>
                <a:latin typeface="Times New Roman"/>
                <a:ea typeface="Times New Roman"/>
              </a:rPr>
              <a:t>ön (ince)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a:t>
            </a:r>
            <a:r>
              <a:rPr b="1"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87280" y="404640"/>
            <a:ext cx="7498080" cy="61200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Açıklık Kapalılıkları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lüler, açıklık kapalılıklarına göre, geniş ve dar ünlü olmak üzere ikiye ayrılırlar. Oluşumu sırasında ağız boşluğunun geniş olduğu </a:t>
            </a:r>
            <a:r>
              <a:rPr b="1" lang="tr-TR" sz="2800" spc="-1" strike="noStrike">
                <a:solidFill>
                  <a:srgbClr val="000000"/>
                </a:solidFill>
                <a:latin typeface="Times New Roman"/>
                <a:ea typeface="Times New Roman"/>
              </a:rPr>
              <a:t>a, e, o, ö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geniş</a:t>
            </a:r>
            <a:r>
              <a:rPr b="0" lang="tr-TR" sz="2800" spc="-1" strike="noStrike">
                <a:solidFill>
                  <a:srgbClr val="000000"/>
                </a:solidFill>
                <a:latin typeface="Times New Roman"/>
                <a:ea typeface="Times New Roman"/>
              </a:rPr>
              <a:t>; ağız boşluğunun dar olduğu </a:t>
            </a:r>
            <a:r>
              <a:rPr b="1" lang="tr-TR" sz="2800" spc="-1" strike="noStrike">
                <a:solidFill>
                  <a:srgbClr val="000000"/>
                </a:solidFill>
                <a:latin typeface="Times New Roman"/>
                <a:ea typeface="Times New Roman"/>
              </a:rPr>
              <a:t>ı, i,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ar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042920" y="549000"/>
            <a:ext cx="7850160" cy="51116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Dudakların Durumu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üz ve yuvarlak ünlü olmak üzere ikiye ayrılırl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eece1"/>
                </a:solidFill>
                <a:latin typeface="Times New Roman"/>
                <a:ea typeface="Times New Roman"/>
              </a:rPr>
              <a:t>	</a:t>
            </a:r>
            <a:r>
              <a:rPr b="0" lang="tr-TR" sz="2800" spc="-1" strike="noStrike">
                <a:solidFill>
                  <a:srgbClr val="000000"/>
                </a:solidFill>
                <a:latin typeface="Times New Roman"/>
                <a:ea typeface="Times New Roman"/>
              </a:rPr>
              <a:t>Oluşumunda dudakların yuvarlak şekil aldığı, büzülmeye uğradığı </a:t>
            </a:r>
            <a:r>
              <a:rPr b="1" lang="tr-TR" sz="2800" spc="-1" strike="noStrike">
                <a:solidFill>
                  <a:srgbClr val="000000"/>
                </a:solidFill>
                <a:latin typeface="Times New Roman"/>
                <a:ea typeface="Times New Roman"/>
              </a:rPr>
              <a:t>o, ö,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yuvarlak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Oluşumund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udakların açık kaldığı </a:t>
            </a:r>
            <a:r>
              <a:rPr b="1" lang="tr-TR" sz="2800" spc="-1" strike="noStrike">
                <a:solidFill>
                  <a:srgbClr val="000000"/>
                </a:solidFill>
                <a:latin typeface="Times New Roman"/>
                <a:ea typeface="Times New Roman"/>
              </a:rPr>
              <a:t>a, e, ı, i,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üz ünlüler</a:t>
            </a:r>
            <a:r>
              <a:rPr b="0" lang="tr-TR" sz="2800" spc="-1" strike="noStrike">
                <a:solidFill>
                  <a:srgbClr val="000000"/>
                </a:solidFill>
                <a:latin typeface="Times New Roman"/>
                <a:ea typeface="Times New Roman"/>
              </a:rPr>
              <a:t>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4. Uzunluk Kısalıklarına Göre:</a:t>
            </a:r>
            <a:r>
              <a:rPr b="0" lang="tr-TR" sz="2400" spc="-1" strike="noStrike">
                <a:solidFill>
                  <a:srgbClr val="eeece1"/>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uzatılmış, sürekli olan ünlüler </a:t>
            </a:r>
            <a:r>
              <a:rPr b="1" lang="tr-TR" sz="2400" spc="-1" strike="noStrike" u="sng">
                <a:solidFill>
                  <a:srgbClr val="000000"/>
                </a:solidFill>
                <a:uFillTx/>
                <a:latin typeface="Times New Roman"/>
                <a:ea typeface="Times New Roman"/>
              </a:rPr>
              <a:t>uzun ünlüler</a:t>
            </a:r>
            <a:r>
              <a:rPr b="0" lang="tr-TR" sz="2400" spc="-1" strike="noStrike">
                <a:solidFill>
                  <a:srgbClr val="000000"/>
                </a:solidFill>
                <a:latin typeface="Times New Roman"/>
                <a:ea typeface="Times New Roman"/>
              </a:rPr>
              <a:t>dir. Türkiye Türkçesinde uzun ünlü yoktur. Uzun ünlülere (â, ê, î, û) Arapça ve Farsçadan dilimize giren kelimelerde rastlanı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bir anda (kısa sürede) olan ve Türkçe asıllı kelimelerde kullanılan ünlüler </a:t>
            </a:r>
            <a:r>
              <a:rPr b="1" lang="tr-TR" sz="2400" spc="-1" strike="noStrike" u="sng">
                <a:solidFill>
                  <a:srgbClr val="000000"/>
                </a:solidFill>
                <a:uFillTx/>
                <a:latin typeface="Times New Roman"/>
                <a:ea typeface="Times New Roman"/>
              </a:rPr>
              <a:t>kısa ünlüler ( a, e, i, o, ö, u, ü)</a:t>
            </a:r>
            <a:r>
              <a:rPr b="0" lang="tr-TR" sz="2400" spc="-1" strike="noStrike">
                <a:solidFill>
                  <a:srgbClr val="000000"/>
                </a:solidFill>
                <a:latin typeface="Times New Roman"/>
                <a:ea typeface="Times New Roman"/>
              </a:rPr>
              <a:t>dir.  ‘I’ ünlüsü ise normalden de kıs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11592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SÜZLER</a:t>
            </a:r>
            <a:endParaRPr b="0" lang="en-US" sz="3200" spc="-1" strike="noStrike">
              <a:solidFill>
                <a:srgbClr val="000000"/>
              </a:solidFill>
              <a:latin typeface="Calibri"/>
            </a:endParaRPr>
          </a:p>
        </p:txBody>
      </p:sp>
      <p:sp>
        <p:nvSpPr>
          <p:cNvPr id="64" name=""/>
          <p:cNvSpPr txBox="1"/>
          <p:nvPr/>
        </p:nvSpPr>
        <p:spPr>
          <a:xfrm>
            <a:off x="468000" y="907560"/>
            <a:ext cx="846612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şumları sırasında ses yolunda bir engelle karşılaşan, takıntıya uğrayan seslerdir. Oluşum noktalarının çokluğu sebebiyle bütün dillerde ünsüzlerin sayısı ünlülerden fazladır. Türkçede de alfabede gösterilen 29 sesten 21’i ünsüzdür. Ünsüzleri de dört grupta inceleyebiliriz:</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Ses Tellerinin Titreşip Titreşmemesine göre Ünsüz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ünsüzler, sedalı/tonlu ve sedasız/tonsuz olmak üzere ikiye ayrıl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539640" y="4365720"/>
            <a:ext cx="8261640" cy="23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15640" y="476280"/>
            <a:ext cx="7777080" cy="61214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Oluşum Noktalarına Göre Ünsüzler: </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süzler, ses yolunun çeşitli bölgelerinde oluşurlar. Oluştukları yere göre arkaya doğru şöyle gruplanırl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udak ünsüzleri: </a:t>
            </a:r>
            <a:r>
              <a:rPr b="0" lang="tr-TR" sz="2800" spc="-1" strike="noStrike">
                <a:solidFill>
                  <a:srgbClr val="ff0000"/>
                </a:solidFill>
                <a:latin typeface="Times New Roman"/>
                <a:ea typeface="Times New Roman"/>
              </a:rPr>
              <a:t>b,p,m</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dudak ünsüzleri: </a:t>
            </a:r>
            <a:r>
              <a:rPr b="0" lang="tr-TR" sz="2800" spc="-1" strike="noStrike">
                <a:solidFill>
                  <a:srgbClr val="ff0000"/>
                </a:solidFill>
                <a:latin typeface="Times New Roman"/>
                <a:ea typeface="Times New Roman"/>
              </a:rPr>
              <a:t>f,v</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ünsüzleri: </a:t>
            </a:r>
            <a:r>
              <a:rPr b="0" lang="tr-TR" sz="2800" spc="-1" strike="noStrike">
                <a:solidFill>
                  <a:srgbClr val="ff0000"/>
                </a:solidFill>
                <a:latin typeface="Times New Roman"/>
                <a:ea typeface="Times New Roman"/>
              </a:rPr>
              <a:t>d,t,n,s,z</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damak ünsüzleri: </a:t>
            </a:r>
            <a:r>
              <a:rPr b="0" lang="tr-TR" sz="2800" spc="-1" strike="noStrike">
                <a:solidFill>
                  <a:srgbClr val="ff0000"/>
                </a:solidFill>
                <a:latin typeface="Times New Roman"/>
                <a:ea typeface="Times New Roman"/>
              </a:rPr>
              <a:t>c,ç,j,ş</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Ön damak ünsüzleri: </a:t>
            </a:r>
            <a:r>
              <a:rPr b="0" lang="tr-TR" sz="2800" spc="-1" strike="noStrike">
                <a:solidFill>
                  <a:srgbClr val="ff0000"/>
                </a:solidFill>
                <a:latin typeface="Times New Roman"/>
                <a:ea typeface="Times New Roman"/>
              </a:rPr>
              <a:t>g,k,l,r,y</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Arka damak ünsüzleri: </a:t>
            </a:r>
            <a:r>
              <a:rPr b="0" lang="tr-TR" sz="2800" spc="-1" strike="noStrike">
                <a:solidFill>
                  <a:srgbClr val="ff0000"/>
                </a:solidFill>
                <a:latin typeface="Times New Roman"/>
                <a:ea typeface="Times New Roman"/>
              </a:rPr>
              <a:t>g,ğ,k</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Gırtlak ünsüzü: </a:t>
            </a:r>
            <a:r>
              <a:rPr b="0" lang="tr-TR" sz="2800" spc="-1" strike="noStrike">
                <a:solidFill>
                  <a:srgbClr val="ff0000"/>
                </a:solidFill>
                <a:latin typeface="Times New Roman"/>
                <a:ea typeface="Times New Roman"/>
              </a:rPr>
              <a:t>h</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88640"/>
            <a:ext cx="8466120" cy="6335640"/>
          </a:xfrm>
          <a:prstGeom prst="rect">
            <a:avLst/>
          </a:prstGeom>
          <a:noFill/>
          <a:ln w="0">
            <a:noFill/>
          </a:ln>
        </p:spPr>
        <p:txBody>
          <a:bodyPr anchor="t">
            <a:normAutofit/>
          </a:bodyPr>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3. Süreklilik ya da Süreksizliklerine Göre Ünsüzle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üreklilik bakımından ünsüzler sürekli/akıcı/sızıcı ya da süreksiz/patlayıcı olarak ikiye ayrılı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meydana gelirken havanın ses yolundan geçmesi gereklidir. Havanın geçişi sırasında bir geçitin olduğu ve bu şekilde oluşan ünsüzlere sürekli ünsüzler deni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Bu geçit dar olursa sızıcı/sürekli </a:t>
            </a:r>
            <a:r>
              <a:rPr b="0" lang="tr-TR" sz="2600" spc="-1" strike="noStrike">
                <a:solidFill>
                  <a:srgbClr val="ff0000"/>
                </a:solidFill>
                <a:latin typeface="Times New Roman"/>
                <a:ea typeface="Times New Roman"/>
              </a:rPr>
              <a:t>(f,ğ,h,j,s,ş,v,z)</a:t>
            </a:r>
            <a:r>
              <a:rPr b="0" lang="tr-TR" sz="2600" spc="-1" strike="noStrike">
                <a:solidFill>
                  <a:srgbClr val="000000"/>
                </a:solidFill>
                <a:latin typeface="Times New Roman"/>
                <a:ea typeface="Times New Roman"/>
              </a:rPr>
              <a:t> sesler; geçit daha geniş olursa akıcı/sürekli </a:t>
            </a:r>
            <a:r>
              <a:rPr b="0" lang="tr-TR" sz="2600" spc="-1" strike="noStrike">
                <a:solidFill>
                  <a:srgbClr val="ff0000"/>
                </a:solidFill>
                <a:latin typeface="Times New Roman"/>
                <a:ea typeface="Times New Roman"/>
              </a:rPr>
              <a:t>(l,m,n,r,y)</a:t>
            </a:r>
            <a:r>
              <a:rPr b="0" lang="tr-TR" sz="2600" spc="-1" strike="noStrike">
                <a:solidFill>
                  <a:srgbClr val="000000"/>
                </a:solidFill>
                <a:latin typeface="Times New Roman"/>
                <a:ea typeface="Times New Roman"/>
              </a:rPr>
              <a:t> dediğimiz sesler oluşu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yolunun kapalı olduğu ve havanın patlayarak oluştuğu seslere süreksiz/patlayıcı sesler denir. Bunlar da </a:t>
            </a:r>
            <a:r>
              <a:rPr b="0" lang="tr-TR" sz="2600" spc="-1" strike="noStrike">
                <a:solidFill>
                  <a:srgbClr val="ff0000"/>
                </a:solidFill>
                <a:latin typeface="Times New Roman"/>
                <a:ea typeface="Times New Roman"/>
              </a:rPr>
              <a:t>b,c,ç,d,g,k,p,t</a:t>
            </a:r>
            <a:r>
              <a:rPr b="0" lang="tr-TR" sz="2600" spc="-1" strike="noStrike">
                <a:solidFill>
                  <a:srgbClr val="000000"/>
                </a:solidFill>
                <a:latin typeface="Times New Roman"/>
                <a:ea typeface="Times New Roman"/>
              </a:rPr>
              <a:t> sesleridi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42560" y="260280"/>
            <a:ext cx="7891560" cy="59882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Hava Yolu Bakımından Ünsüzle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a ağız ve geniz ünsüzleri olarak ikiye ayrılırlar. Hava akımının ağız yoluyla çıktığı ünsüzlere ağız ünsüzleri denir. m,n ünsüzleri dışındaki tüm ünsüzler ağız ünsüzüdür. Geniz ünsüzlerinde ise hava geniz, burun yoluyla çık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998B-7C0C-4F55-9B74-E48F0A3839F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Tahoma"/>
            </a:endParaRPr>
          </a:p>
        </p:txBody>
      </p:sp>
      <p:pic>
        <p:nvPicPr>
          <p:cNvPr id="71"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DİL BİLGİSİNİN BÖLÜMLERİ</a:t>
            </a:r>
            <a:endParaRPr b="0" lang="en-US" sz="2900" spc="-1" strike="noStrike">
              <a:solidFill>
                <a:srgbClr val="000000"/>
              </a:solidFill>
              <a:latin typeface="Calibri"/>
            </a:endParaRPr>
          </a:p>
        </p:txBody>
      </p:sp>
      <p:sp>
        <p:nvSpPr>
          <p:cNvPr id="43" name="PlaceHolder 2"/>
          <p:cNvSpPr>
            <a:spLocks noGrp="1"/>
          </p:cNvSpPr>
          <p:nvPr>
            <p:ph type="subTitle"/>
          </p:nvPr>
        </p:nvSpPr>
        <p:spPr>
          <a:xfrm>
            <a:off x="394920" y="907920"/>
            <a:ext cx="8497800" cy="56167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ir dili bütün yönleriyle inceleyen bilim dalıdır. Dilin içinde seslerden cümlelere kadar küçüklü büyüklü bir takım unsurlar vardır. Ses, hece, kelime, kelime grubu, cümle gibi. Dil birlikleri dediğimiz bu unsurların şekilleri, yapıları, bünyeleri; bir de fonksiyonları, anlamları ve vazifeleri vardır.</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u dil birliklerini çeşitli bakımlardan inceler ve kurallarını belirle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Ses Bilgisi (Fonetik): </a:t>
            </a:r>
            <a:r>
              <a:rPr b="0" lang="tr-TR" sz="2000" spc="-1" strike="noStrike">
                <a:solidFill>
                  <a:srgbClr val="000000"/>
                </a:solidFill>
                <a:latin typeface="Times New Roman"/>
                <a:ea typeface="Times New Roman"/>
              </a:rPr>
              <a:t>Dil bilgisinin ,dilin seslerini, bunlar arasındaki ilgileri ve ses olaylar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Şekil Bilgisi (Morfoloji): </a:t>
            </a:r>
            <a:r>
              <a:rPr b="0" lang="tr-TR" sz="2000" spc="-1" strike="noStrike">
                <a:solidFill>
                  <a:srgbClr val="000000"/>
                </a:solidFill>
                <a:latin typeface="Times New Roman"/>
                <a:ea typeface="Times New Roman"/>
              </a:rPr>
              <a:t>Dil bilgisinin kelime ve şekilleri, kelimelerin, köklerin ve eklerin yapısını ve fonksiyonunu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üreme Bilgisi – Köken Bilgisi (Etimoloji): </a:t>
            </a:r>
            <a:r>
              <a:rPr b="0" lang="tr-TR" sz="2000" spc="-1" strike="noStrike">
                <a:solidFill>
                  <a:srgbClr val="000000"/>
                </a:solidFill>
                <a:latin typeface="Times New Roman"/>
                <a:ea typeface="Times New Roman"/>
              </a:rPr>
              <a:t>Dil bilgisinin kelime ve şekillerin kaynağ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Anlam Bilgisi (Semantik): </a:t>
            </a:r>
            <a:r>
              <a:rPr b="0" lang="tr-TR" sz="2000" spc="-1" strike="noStrike">
                <a:solidFill>
                  <a:srgbClr val="000000"/>
                </a:solidFill>
                <a:latin typeface="Times New Roman"/>
                <a:ea typeface="Times New Roman"/>
              </a:rPr>
              <a:t>Dil bilgisinin kelime ve şekillerin anlamları üzerinde dura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Cümle Bilgisi (Sentaks): </a:t>
            </a:r>
            <a:r>
              <a:rPr b="0" lang="tr-TR" sz="2000" spc="-1" strike="noStrike">
                <a:solidFill>
                  <a:srgbClr val="000000"/>
                </a:solidFill>
                <a:latin typeface="Times New Roman"/>
                <a:ea typeface="Times New Roman"/>
              </a:rPr>
              <a:t>Dil bilgisinin, kelimelerin birbiriyle olan ilişkilerini ve cümleleri inceleyen bölümüdü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SES BİLGİSİ</a:t>
            </a:r>
            <a:endParaRPr b="0" lang="en-US" sz="3600" spc="-1" strike="noStrike">
              <a:solidFill>
                <a:srgbClr val="000000"/>
              </a:solidFill>
              <a:latin typeface="Calibri"/>
            </a:endParaRPr>
          </a:p>
        </p:txBody>
      </p:sp>
      <p:sp>
        <p:nvSpPr>
          <p:cNvPr id="45" name=""/>
          <p:cNvSpPr txBox="1"/>
          <p:nvPr/>
        </p:nvSpPr>
        <p:spPr>
          <a:xfrm>
            <a:off x="323640" y="1197000"/>
            <a:ext cx="86310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lgisinin dilin sesleri inceleyen bölümüne ses bilgisi (fonetik) dendiğini söylemiştik. Ses bilgisi, dil bilgisinin bir bakıma temel bölümüdür.  Çünkü dil, seslerden meydana ge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bilimin bir amacı vardır. Ses bilgisinin amacı da sesi eğitmek, konuşmayı geliştirmektir. Türkiye Türkçesinin ses yapısı incelenirken yazı dilimiz esas alınır,  yazı dili yanında gerektikçe konuşma dili ve ağız özelliklerine de yer veril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70"/>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S ve SESİN YAPISI</a:t>
            </a:r>
            <a:endParaRPr b="0" lang="en-US" sz="3200" spc="-1" strike="noStrike">
              <a:solidFill>
                <a:srgbClr val="000000"/>
              </a:solidFill>
              <a:latin typeface="Calibri"/>
            </a:endParaRPr>
          </a:p>
        </p:txBody>
      </p:sp>
      <p:sp>
        <p:nvSpPr>
          <p:cNvPr id="47" name=""/>
          <p:cNvSpPr txBox="1"/>
          <p:nvPr/>
        </p:nvSpPr>
        <p:spPr>
          <a:xfrm>
            <a:off x="684360" y="980640"/>
            <a:ext cx="8208720" cy="5472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 dilin en küçük parçasıdır. En küçüğünden en büyüğüne kadar bütün dil birlikleri seslerden oluşur. Sesten daha küçük bir gramer birimi yoktur. O halde ses parçalanamayan en küçük gramer birimidi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n tek başına anlamları yoktur,(üçüncü tekil kişi şahıs zamiri veya işaret sıfatı olarak kullanılan “o” hariç)  yalnızca yapıları ile görev üstlenirler. Seslerin yapısı ise duyulan sedadan ibarettir. ”a sedası, “b” sedası “c” sedası…gibi.</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dilin dışında sayısız ses vardır. Titreşimle, çarpma ve sürtünme ile çıkan çeşitli sesler bulunmaktadır. Derslerimizde bahsettiğimiz  ses ile bunları kastetmiyoruz. Dildeki ses, gelişigüzel, rastgele bir ses değil; bir kalıptan çıkmış, işlenmiş şekilli sedadı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bilinçli olarak şekilli seda çıkarabilme yeteneğine sahip yegane varlık insand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 nasıl çıkarıyoruz? Konuşma nasıl gerçekleş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46"/>
                                        </p:tgtEl>
                                        <p:attrNameLst>
                                          <p:attrName>style.visibility</p:attrName>
                                        </p:attrNameLst>
                                      </p:cBhvr>
                                      <p:to>
                                        <p:strVal val="visible"/>
                                      </p:to>
                                    </p:set>
                                    <p:animEffect filter="slide(fromBottom)" transition="in">
                                      <p:cBhvr additive="repl">
                                        <p:cTn id="16" dur="1000"/>
                                        <p:tgtEl>
                                          <p:spTgt spid="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1" dur="1000"/>
                                        <p:tgtEl>
                                          <p:spTgt spid="47">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26" dur="1000"/>
                                        <p:tgtEl>
                                          <p:spTgt spid="47">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31" dur="1000"/>
                                        <p:tgtEl>
                                          <p:spTgt spid="47">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36" dur="1000"/>
                                        <p:tgtEl>
                                          <p:spTgt spid="47">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41" dur="1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49" name=""/>
          <p:cNvSpPr txBox="1"/>
          <p:nvPr/>
        </p:nvSpPr>
        <p:spPr>
          <a:xfrm>
            <a:off x="323640" y="1412640"/>
            <a:ext cx="8420040" cy="4392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zikî Şartla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onuşmaya katılan tüm organların sağlıklı ve arızasız olması gerekmektedi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eyinden başlayarak, kulak, burun, boğaz, dil, diş, damak, soluk borusu, diyafram, akciğer gibi konuşma organların fizikî yönden kusursuz olmaları, konuşma için en temel şartt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nlardan birinin kusuru veya hastalığı konuşmayı aksatı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48"/>
                                        </p:tgtEl>
                                        <p:attrNameLst>
                                          <p:attrName>style.visibility</p:attrName>
                                        </p:attrNameLst>
                                      </p:cBhvr>
                                      <p:to>
                                        <p:strVal val="visible"/>
                                      </p:to>
                                    </p:set>
                                    <p:animEffect filter="slide(fromBottom)" transition="in">
                                      <p:cBhvr additive="repl">
                                        <p:cTn id="48" dur="1000"/>
                                        <p:tgtEl>
                                          <p:spTgt spid="4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3" dur="1000"/>
                                        <p:tgtEl>
                                          <p:spTgt spid="4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8" dur="1000"/>
                                        <p:tgtEl>
                                          <p:spTgt spid="49">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63" dur="1000"/>
                                        <p:tgtEl>
                                          <p:spTgt spid="49">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8" dur="1000"/>
                                        <p:tgtEl>
                                          <p:spTgt spid="49">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3"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51" name=""/>
          <p:cNvSpPr txBox="1"/>
          <p:nvPr/>
        </p:nvSpPr>
        <p:spPr>
          <a:xfrm>
            <a:off x="395280" y="1267920"/>
            <a:ext cx="8486640" cy="51850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Psikolojik Şartl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nın fizikî şartları kadar psikolojik şartları da önemlidir. Konuşma yönünden fiziksel kusuru olmayan bir insan, değişik psikolojik sebeplerden dolayı konuşamayabilir. Baskılı bir ortamda çocukluklarını geçirmiş insanların psikolojik olarak konuşma bozuklukları yaşadıkları bilinmekted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ahat, huzurlu bir ortamda ve kendisine değer verilerek büyümüş insanlar, daha düzgün ve daha akıcı konuşmaktad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nun için aileden başlayarak  eğitim öğretimin her basamağında  insanlar desteklenmeli, yüreklendirilmeli ve fikirleri alınmalıdır. Böylece konuşmayı zorlaştıran utanma, sıkılma, kaygı gibi olumsuz durumlar  giderilmiş olacaktır. Yetişme çağında çocuklar ve gençler için gerekli olan özgür ortamlar mutlaka sağlanmalıdı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0"/>
                                        </p:tgtEl>
                                        <p:attrNameLst>
                                          <p:attrName>style.visibility</p:attrName>
                                        </p:attrNameLst>
                                      </p:cBhvr>
                                      <p:to>
                                        <p:strVal val="visible"/>
                                      </p:to>
                                    </p:set>
                                    <p:animEffect filter="slide(fromBottom)" transition="in">
                                      <p:cBhvr additive="repl">
                                        <p:cTn id="80" dur="1000"/>
                                        <p:tgtEl>
                                          <p:spTgt spid="50"/>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5" dur="1000"/>
                                        <p:tgtEl>
                                          <p:spTgt spid="51">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0" dur="1000"/>
                                        <p:tgtEl>
                                          <p:spTgt spid="51">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5" dur="1000"/>
                                        <p:tgtEl>
                                          <p:spTgt spid="51">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00"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3" name=""/>
          <p:cNvSpPr txBox="1"/>
          <p:nvPr/>
        </p:nvSpPr>
        <p:spPr>
          <a:xfrm>
            <a:off x="250920" y="1052640"/>
            <a:ext cx="870408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 zannedildiğinden ve görüldüğünden daha karmaşık bir yapıya sahipt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Zihnimizin kullandığımız kelimeleri seçmesi, bunları bir araya getirmesi ve anlamlı bir bütün oluşturması karmaşık bir sürecin ürünüdür. Bu süreç şu ana kadar tam anlamıyla aydınlatılabilmiş değil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örolog ve fizyologlar, konuşmanın insan beyninde tek bir merkezden yönetilmediğini tespit etmişlerdir. Konuşma merkezi, serebral korteks denilen bölgede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okunma, görme, işitme, tat alma ve koku gibi dışarıdan alınan duyulara ait sinyaller, beynin farklı merkezlerinde işlendikten sonra, kortekse gelir ve burada yorumlan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rtekste, konuşma sürecinde rol oynayan birbiriyle ilişkili iki alan vardır: Werniche ve broca alan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52"/>
                                        </p:tgtEl>
                                        <p:attrNameLst>
                                          <p:attrName>style.visibility</p:attrName>
                                        </p:attrNameLst>
                                      </p:cBhvr>
                                      <p:to>
                                        <p:strVal val="visible"/>
                                      </p:to>
                                    </p:set>
                                    <p:animEffect filter="slide(fromBottom)" transition="in">
                                      <p:cBhvr additive="repl">
                                        <p:cTn id="107" dur="1000"/>
                                        <p:tgtEl>
                                          <p:spTgt spid="5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2" dur="1000"/>
                                        <p:tgtEl>
                                          <p:spTgt spid="53">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17" dur="1000"/>
                                        <p:tgtEl>
                                          <p:spTgt spid="53">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2" dur="1000"/>
                                        <p:tgtEl>
                                          <p:spTgt spid="53">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27" dur="1000"/>
                                        <p:tgtEl>
                                          <p:spTgt spid="53">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32" dur="1000"/>
                                        <p:tgtEl>
                                          <p:spTgt spid="53">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137"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5" name=""/>
          <p:cNvSpPr txBox="1"/>
          <p:nvPr/>
        </p:nvSpPr>
        <p:spPr>
          <a:xfrm>
            <a:off x="323640" y="1267920"/>
            <a:ext cx="8559720" cy="5185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Werniche alanı; dış dünyadan (görme, işitme vb) ve içimizden (ağrı, sancı vb) gelen duyularımıza ait bilgilerin yorumlandığı alandır. Konuşma için herhangi bir duyu organımızdan, beyin korteksimize gelen  bilgilerin alınması, kendi içinde yorumlanması ve daha sonra diğer duyulardan gelen bilgilerle karşılaştırılarak tekrar  değerlendirilmesi gerek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bu bölge beynin alın kısmındadır. Kelime ve cümlelerin ifadesi için kalıplar burada  oluşturulur. Broca alanı, düşüncelerin kelimelere dökülmesinde ve bu dizilmiş kelimelerin ses tellerimize iletilmesinde rol oyna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ndan gönderilen sinyaller vasıtasıyla konuşmada rol alan gırtlak, nefes borusu gibi bütün organlar çalıştırılarak düzgün bir konuşma ortaya çık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ırtlakta iki ses telimiz vardır. Ses tellerinin kasılıp titreşmesinde broca alanından gelen sinyaller önemli rol oyn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54"/>
                                        </p:tgtEl>
                                        <p:attrNameLst>
                                          <p:attrName>style.visibility</p:attrName>
                                        </p:attrNameLst>
                                      </p:cBhvr>
                                      <p:to>
                                        <p:strVal val="visible"/>
                                      </p:to>
                                    </p:set>
                                    <p:animEffect filter="slide(fromBottom)" transition="in">
                                      <p:cBhvr additive="repl">
                                        <p:cTn id="144" dur="1000"/>
                                        <p:tgtEl>
                                          <p:spTgt spid="5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9" dur="1000"/>
                                        <p:tgtEl>
                                          <p:spTgt spid="55">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54" dur="1000"/>
                                        <p:tgtEl>
                                          <p:spTgt spid="5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59" dur="1000"/>
                                        <p:tgtEl>
                                          <p:spTgt spid="5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64"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333360"/>
            <a:ext cx="77929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BOZUKLUKLARI</a:t>
            </a:r>
            <a:endParaRPr b="0" lang="en-US" sz="3200" spc="-1" strike="noStrike">
              <a:solidFill>
                <a:srgbClr val="000000"/>
              </a:solidFill>
              <a:latin typeface="Calibri"/>
            </a:endParaRPr>
          </a:p>
        </p:txBody>
      </p:sp>
      <p:sp>
        <p:nvSpPr>
          <p:cNvPr id="57" name=""/>
          <p:cNvSpPr txBox="1"/>
          <p:nvPr/>
        </p:nvSpPr>
        <p:spPr>
          <a:xfrm>
            <a:off x="250920" y="1483920"/>
            <a:ext cx="8704080" cy="47530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werniche alanı gibi bölgelerin lezyonundan konuşma bozuklukları ortaya çıka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ozukluklar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uydurma, kelimede seslerin gelişigüzel sıralanması gibi bozukluklardır.</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ebral korteks bölgesinin geniş çaplı zedelenmesinden </a:t>
            </a:r>
            <a:r>
              <a:rPr b="1" lang="tr-TR" sz="2400" spc="-1" strike="noStrike">
                <a:solidFill>
                  <a:srgbClr val="000000"/>
                </a:solidFill>
                <a:latin typeface="Times New Roman"/>
                <a:ea typeface="Times New Roman"/>
              </a:rPr>
              <a:t>apraksi</a:t>
            </a:r>
            <a:r>
              <a:rPr b="0" lang="tr-TR" sz="2400" spc="-1" strike="noStrike">
                <a:solidFill>
                  <a:srgbClr val="000000"/>
                </a:solidFill>
                <a:latin typeface="Times New Roman"/>
                <a:ea typeface="Times New Roman"/>
              </a:rPr>
              <a:t> dediğimiz konuşma bozukluğu ortaya çıkar. Bu durumdaki kişi konuştuğu dile ait gramer kurallarına uygun  konuşamaz.</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Şizofrenide de konuşma ve düşünce bozuklukları görülür. Gramer ve söz dizimi bozulur, karşılıklı konuşma yeteneği az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56"/>
                                        </p:tgtEl>
                                        <p:attrNameLst>
                                          <p:attrName>style.visibility</p:attrName>
                                        </p:attrNameLst>
                                      </p:cBhvr>
                                      <p:to>
                                        <p:strVal val="visible"/>
                                      </p:to>
                                    </p:set>
                                    <p:animEffect filter="slide(fromBottom)" transition="in">
                                      <p:cBhvr additive="repl">
                                        <p:cTn id="171" dur="1000"/>
                                        <p:tgtEl>
                                          <p:spTgt spid="5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76" dur="1000"/>
                                        <p:tgtEl>
                                          <p:spTgt spid="57">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81" dur="1000"/>
                                        <p:tgtEl>
                                          <p:spTgt spid="57">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86" dur="1000"/>
                                        <p:tgtEl>
                                          <p:spTgt spid="57">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191" dur="1000"/>
                                        <p:tgtEl>
                                          <p:spTgt spid="57">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196"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3:44:20Z</dcterms:created>
  <dc:creator>faruk</dc:creator>
  <dc:description/>
  <dc:language>en-US</dc:language>
  <cp:lastModifiedBy>tuba</cp:lastModifiedBy>
  <dcterms:modified xsi:type="dcterms:W3CDTF">2014-10-15T11:14:05Z</dcterms:modified>
  <cp:revision>759</cp:revision>
  <dc:subject/>
  <dc:title>Doğru ve Güzel Konuşma Yeteneğini Geliştirme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